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9.png" ContentType="image/png"/>
  <Override PartName="/ppt/media/image14.png" ContentType="image/png"/>
  <Override PartName="/ppt/media/image1.gif" ContentType="image/gif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wmf" ContentType="image/x-wmf"/>
  <Override PartName="/ppt/media/image15.wmf" ContentType="image/x-wmf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413A2-2760-4AD8-AFD8-DAF98CFC2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ADE1-D4AF-43FE-9E0F-36882F3BC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88C31-8E0D-40F3-8156-4B2669C0A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57968-2B76-4EED-83F4-A4B132C83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08B71-0964-4739-8A29-2D468BB9E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976DE-C4B9-4127-B59C-8CF825367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1ABB6-18CF-4290-91F8-A035A7308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76583-F543-40A9-AB36-7D2F02DE5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F0787-9E2D-4DD8-9B3B-6FA1A7B1F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67A7B-A7FE-4735-9E6F-4350BE779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9A7F9-670C-4CE5-9CD1-650E3E374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584E9-61EA-482F-9FBD-BE9BAFBD7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55B43-E652-4424-9EE4-940F26849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E4DF2-16BD-462D-AAC1-CDE68FEB2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7F0AA-7889-4FBE-8912-54700264D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49857-E616-47D1-B2E8-A5EE2BF8C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69576-9650-4272-8A7E-26065E02E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54204-3AB0-4295-8B2F-20278F3B5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E4087-D228-4473-A0C7-7EA8B59FE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B5DA5-BC6E-4826-A8C0-1C2BB538F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90CB6-CF02-4751-94B9-7E4B27C8B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EE91-3D89-40A0-A7F3-675482ABC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A0A52-B508-4019-9996-54B98FC2A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2814D-AB5E-4254-9F12-E9D1FE3EB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8CCA9-36D7-425F-8C1C-08DDE27E9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DF1CB-388D-4418-BF4C-FBD37B5A1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BE505-2464-4527-8E24-97312EE72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0FC9-FB3B-440B-A1C0-D77A55719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193A-D986-463C-B706-529F40F99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2A47-A21C-4F6C-9206-76469280A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FFAA-81BA-490F-83F6-992CC3D95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3285-E478-4121-A171-462E939FA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2B74-F256-4712-8EF7-669B70DBF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142D-D14A-4940-958A-075EC1986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D825-0F0B-4918-9BEA-64037928A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F8C7-7231-4FB5-AD03-FA83B5D21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40A9-853A-4B0D-A11E-2436F8D1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2E1F-CE88-445D-8B99-DA616BC0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5B1C-6669-4BCB-9153-A9B2EBE6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B41BE-C6DF-4346-B5E7-4E089598A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22.xml"/><Relationship Id="rId7" Type="http://schemas.openxmlformats.org/officeDocument/2006/relationships/slide" Target="slide3.xml"/><Relationship Id="rId8" Type="http://schemas.openxmlformats.org/officeDocument/2006/relationships/slide" Target="slide8.xml"/><Relationship Id="rId9" Type="http://schemas.openxmlformats.org/officeDocument/2006/relationships/slide" Target="slide13.xml"/><Relationship Id="rId10" Type="http://schemas.openxmlformats.org/officeDocument/2006/relationships/slide" Target="slide18.xml"/><Relationship Id="rId11" Type="http://schemas.openxmlformats.org/officeDocument/2006/relationships/slide" Target="slide23.xml"/><Relationship Id="rId12" Type="http://schemas.openxmlformats.org/officeDocument/2006/relationships/slide" Target="slide4.xml"/><Relationship Id="rId13" Type="http://schemas.openxmlformats.org/officeDocument/2006/relationships/slide" Target="slide9.xml"/><Relationship Id="rId14" Type="http://schemas.openxmlformats.org/officeDocument/2006/relationships/slide" Target="slide14.xml"/><Relationship Id="rId15" Type="http://schemas.openxmlformats.org/officeDocument/2006/relationships/slide" Target="slide19.xml"/><Relationship Id="rId16" Type="http://schemas.openxmlformats.org/officeDocument/2006/relationships/slide" Target="slide24.xml"/><Relationship Id="rId17" Type="http://schemas.openxmlformats.org/officeDocument/2006/relationships/slide" Target="slide5.xml"/><Relationship Id="rId18" Type="http://schemas.openxmlformats.org/officeDocument/2006/relationships/slide" Target="slide10.xml"/><Relationship Id="rId19" Type="http://schemas.openxmlformats.org/officeDocument/2006/relationships/slide" Target="slide15.xml"/><Relationship Id="rId20" Type="http://schemas.openxmlformats.org/officeDocument/2006/relationships/slide" Target="slide20.xml"/><Relationship Id="rId21" Type="http://schemas.openxmlformats.org/officeDocument/2006/relationships/slide" Target="slide25.xml"/><Relationship Id="rId22" Type="http://schemas.openxmlformats.org/officeDocument/2006/relationships/slide" Target="slide6.xml"/><Relationship Id="rId23" Type="http://schemas.openxmlformats.org/officeDocument/2006/relationships/slide" Target="slide11.xml"/><Relationship Id="rId24" Type="http://schemas.openxmlformats.org/officeDocument/2006/relationships/slide" Target="slide16.xml"/><Relationship Id="rId25" Type="http://schemas.openxmlformats.org/officeDocument/2006/relationships/slide" Target="slide21.xml"/><Relationship Id="rId26" Type="http://schemas.openxmlformats.org/officeDocument/2006/relationships/slide" Target="slide26.xml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60" descr="mels_question_md_blk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1905120" y="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ransformations Jeopar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2592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hapes in Mo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 LOVE GEO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ikings are 4-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IZ - ZO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vie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2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3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4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5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6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905120" y="2209680"/>
            <a:ext cx="2286000" cy="2184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4572000" y="2209680"/>
            <a:ext cx="2286000" cy="22035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1905120" y="4572000"/>
            <a:ext cx="2286000" cy="2160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4648320" y="4572000"/>
            <a:ext cx="2209680" cy="2130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3962520" y="609480"/>
            <a:ext cx="1218960" cy="7066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8"/>
          <a:stretch/>
        </p:blipFill>
        <p:spPr>
          <a:xfrm>
            <a:off x="5867280" y="1295280"/>
            <a:ext cx="1905120" cy="649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74840" y="3768480"/>
            <a:ext cx="259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5960" y="304920"/>
            <a:ext cx="7461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glide reflection image of the upper right triangle for the glide of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8360" y="1371600"/>
            <a:ext cx="1957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reflection of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288000" y="1827360"/>
            <a:ext cx="8097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line of symmetry for the graph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= (x-2)^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431520" y="5638680"/>
            <a:ext cx="17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533520" y="762120"/>
            <a:ext cx="8305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ist all scale factors that would result in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duc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ist all scale factors that would result in an enlargement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583080" y="5486400"/>
            <a:ext cx="213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te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1143000" y="762120"/>
            <a:ext cx="706608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ight figure is an isometry of the left figure. Tell whether their orientations are the same or opposite. Then classify the isomet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2743200" y="1752480"/>
            <a:ext cx="3352680" cy="16876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431520" y="5638680"/>
            <a:ext cx="17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1294200" y="1979640"/>
            <a:ext cx="6215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 the type of symmetry for the fig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362320" y="2666880"/>
            <a:ext cx="3733560" cy="31575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583800" y="6095880"/>
            <a:ext cx="17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1330200" y="2055960"/>
            <a:ext cx="6538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implify the following express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6x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 – 3x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+ 7xy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+ 3x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431520" y="5638680"/>
            <a:ext cx="17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4"/>
          <p:cNvSpPr/>
          <p:nvPr/>
        </p:nvSpPr>
        <p:spPr>
          <a:xfrm>
            <a:off x="1524960" y="1752480"/>
            <a:ext cx="6287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olve for x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-(2 – x) + 5x = 2x + 7 – 3(3x – 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31520" y="5638680"/>
            <a:ext cx="17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457200" y="1584360"/>
            <a:ext cx="84646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many lines of symmetry does the figure have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666880" y="3048120"/>
            <a:ext cx="3886200" cy="25956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733920" y="426708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257440" y="426708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0" y="5334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12400" y="6019920"/>
            <a:ext cx="17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4"/>
          <p:cNvSpPr/>
          <p:nvPr/>
        </p:nvSpPr>
        <p:spPr>
          <a:xfrm>
            <a:off x="1330200" y="2131920"/>
            <a:ext cx="6538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implify the following express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(x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+ 4) – 3x + 2x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– 8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31520" y="5638680"/>
            <a:ext cx="17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295280" y="457200"/>
            <a:ext cx="6705720" cy="3352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1308240" y="1066680"/>
                <a:ext cx="6705360" cy="228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−</m:t>
                                  </m:r>
                                  <m:r>
                                    <m:t xml:space="preserve">4</m:t>
                                  </m:r>
                                </m:num>
                                <m:den>
                                  <m:r>
                                    <m:t xml:space="preserve">7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2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  <m:r>
                                <m:t xml:space="preserve">y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7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5</m:t>
                                  </m:r>
                                </m:num>
                                <m:den>
                                  <m:r>
                                    <m:t xml:space="preserve">6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1523880" y="4876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31720" y="4343400"/>
            <a:ext cx="475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value of x and 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83080" y="5486400"/>
            <a:ext cx="213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te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380880" y="2057400"/>
            <a:ext cx="8151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vertices of a triangle ar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–2, –4)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2, –5),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–1, –8). Name the vertices of the image reflected in th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ax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te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533520" y="1143000"/>
            <a:ext cx="80769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r friend’s math test contained 42 questions, some of which were worth two points while the rest were worth three points.  Your friend tells you that a perfect score is 100 points, but she cannot remember how many of each type (2 point or 3 point) were on the tes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lp your friend out:  how many of each type were on the te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431520" y="5638680"/>
            <a:ext cx="17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"/>
          <p:cNvSpPr/>
          <p:nvPr/>
        </p:nvSpPr>
        <p:spPr>
          <a:xfrm>
            <a:off x="461160" y="685800"/>
            <a:ext cx="7656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olve the following system of equatio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= 2x –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y + 5x = 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31520" y="5638680"/>
            <a:ext cx="17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990720" y="1905120"/>
            <a:ext cx="7315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ne Symmetry is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(always, sometimes, never)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Reflectional Symmet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31520" y="5638680"/>
            <a:ext cx="17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371600" y="1371600"/>
            <a:ext cx="6477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H has endpoints G(-3, 2) and H(3, -2).  Find the coordinates of the midpoint of G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00200" y="144792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19720" y="327672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31520" y="5638680"/>
            <a:ext cx="17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981080" y="1752480"/>
            <a:ext cx="5334120" cy="3276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676520" y="1752480"/>
            <a:ext cx="5333760" cy="3048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09680" y="290916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(3y + 20)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90360" y="380880"/>
            <a:ext cx="74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value of y given the picture bel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64760" y="2909160"/>
            <a:ext cx="170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(5y – 16)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431520" y="5638680"/>
            <a:ext cx="17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33520" y="1295280"/>
            <a:ext cx="8153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nd the distance between points X and 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X(-3, -4)        Y(5, 5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31520" y="5638680"/>
            <a:ext cx="17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057400" y="1295280"/>
            <a:ext cx="5334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wice an angle is 5 more than its complem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measure of the angl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31520" y="5638680"/>
            <a:ext cx="17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1905120" y="914400"/>
            <a:ext cx="4876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 the diagram, the dashed figure is the image of the solid fig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me the image of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905120" y="1905120"/>
            <a:ext cx="441936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1377000" y="1066680"/>
            <a:ext cx="661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image of the figure after a reflection in lin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lin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124080" y="1828800"/>
            <a:ext cx="3124440" cy="3124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657960" y="6019920"/>
            <a:ext cx="264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te bo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768240" y="838080"/>
            <a:ext cx="722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 one flag a translation image or rotation image of the other? Expl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2895480" y="2209680"/>
            <a:ext cx="2819520" cy="28195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355200" y="5943600"/>
            <a:ext cx="17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304920" y="4572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 scalar multiplication to find the image vertices for a dilation with center (0, 0) and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ale factor of ½ 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2286000" y="144792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354480" y="6019920"/>
            <a:ext cx="213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te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2133720" y="304920"/>
            <a:ext cx="5105160" cy="1008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 the translation image of triangle ABC after a reflection over lin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hen a reflection over line 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828800" y="1828800"/>
            <a:ext cx="6095880" cy="29131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735720" y="5867280"/>
            <a:ext cx="213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te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80880" y="13716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otational Symmetry is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always, sometimes, never)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Point Symme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12400" y="5486400"/>
            <a:ext cx="17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819520" y="4191120"/>
            <a:ext cx="259056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975240" y="1752480"/>
            <a:ext cx="165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trix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438280" y="1447920"/>
            <a:ext cx="304812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514600" y="1676520"/>
                <a:ext cx="281952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5414760" y="1905120"/>
            <a:ext cx="353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s triangle A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3429000"/>
            <a:ext cx="7010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coordinates of the vertices of the image A’ B’ C’, after multiplying the transformation matrix below by the matrix abov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2895480" y="4191120"/>
                <a:ext cx="2362320" cy="21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e>
                              </m:mr>
                            </m:m>
                          </m:e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3231000" y="611028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te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Rachel Livengood</cp:lastModifiedBy>
  <dcterms:modified xsi:type="dcterms:W3CDTF">2009-10-07T02:59:43Z</dcterms:modified>
  <cp:revision>26</cp:revision>
  <dc:subject/>
  <dc:title>Slide 1</dc:title>
</cp:coreProperties>
</file>